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FA8-A225-40B3-80EC-97018D08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A24-1EA2-42FC-B96D-42B0B145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7D1-F165-4FC2-B62C-1382252D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9E5-FECF-48E6-863A-E00A1D0A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D55-0786-41B8-9969-A2FACF10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F98-65DA-4720-AFAF-AA51D129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F1E-D118-4342-99A1-41116A70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FBC-6200-4B69-AD09-F2BE4FC1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ED4-6A56-494B-9ABA-E09C8B1A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549-5C7C-4042-85F6-C6CAA3B5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E28-BCC6-4F5F-8D23-F89CE3D0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045-DD9B-4336-89AF-AFF0AB8F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3386-62D0-4E67-B9F8-E6DBC350E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19320" y="0"/>
          <a:ext cx="6858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6858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0:11:13Z</dcterms:created>
  <dc:creator>claire</dc:creator>
  <dc:description/>
  <dc:language>en-US</dc:language>
  <cp:lastModifiedBy>claire</cp:lastModifiedBy>
  <dcterms:modified xsi:type="dcterms:W3CDTF">2004-05-05T10:11:33Z</dcterms:modified>
  <cp:revision>1</cp:revision>
  <dc:subject/>
  <dc:title>Présentation PowerPoint</dc:title>
</cp:coreProperties>
</file>